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2910-0BC3-4402-AC06-188610758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D6E0-5211-4CFD-B041-A510C0AB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FA14-297B-4551-86C9-E991B0818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BB0B-29B1-40D2-B4C9-1CFC30436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8F69-722D-4ACC-9E18-84D1A1E2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4E84-4692-44B6-9ED2-61D0EBBA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975C-CA1F-47F7-806B-50EEC99D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CC3E-CDF5-43B9-ACFA-416BC2E0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8050-4FCE-46A1-99D0-E64C0D27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3E8E-6D9D-4B60-8D65-F3EBD6BD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E3A2-0477-4F60-9D15-44D99EF0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4F54-6087-45C9-9FCB-570D1884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A139-AEB8-40F4-986C-EC689BE3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80A7-3FC3-43B0-9945-1FEA5150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CD8C-5263-4F14-B26B-31F9F55B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A4F6-6A11-4821-B728-7D2F0D588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6524-D836-4295-A988-3917C16D1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549DAD-8ECF-4B62-A915-DC5CCAD0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E5669E-5C47-401D-A92B-83CBD653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0D5C83-6E21-4DBC-9EE1-167C45BC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1720A6-5F3D-4FEA-B96D-206BAC20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E6683F-CDAE-4926-AE06-9288F7ED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54B0-9F9D-4BEF-BCA1-BF6417F7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0E628D-5AC2-4C70-B5F9-E2529A15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250F12-73EA-4959-B5DF-7DFEC43C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E9CD2B-F25F-49A9-BC0E-6A5C5FF9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0BC3A6-A2C6-432C-B132-55A58F6B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7761D0-4713-414B-82AD-8A264000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3223A4-C690-4011-9C10-5A6F2DF7B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1A04A4-DE43-4C0F-819F-96D4BB2E1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6DB96-DE51-44F0-A3A1-C3D92ECD2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3CE3D-66EA-4AC5-9D56-09B5757C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64BF4-E2BB-4456-8B68-F4CE271B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AA0F-C840-4DDD-88C8-073CD3A7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20270-849B-49DE-B92B-D784E36D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A9C18-C9F4-4512-A451-80A5EF78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BF3C7-674F-41B0-AAE0-4176F138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D7D62-B630-4899-8791-6B78E562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6251A-5D60-498C-ABAA-322B89CF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60FAB-FEC3-47D3-9087-1123DC43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CAD0D-6BC8-4F50-86D3-176C320B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C4D59-08EA-48B8-9C5C-8E47EA7F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E9E17-FF42-44A5-ADDA-CDBB309DD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D4EBB1-B9C2-4C84-9AFE-06248641B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DEA9-08A9-4481-A807-BF7BDA9E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F55B77-6FBC-4C8F-ADCD-BD4B9DBA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1804A4-9A5D-4F40-86C6-CDF88B71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47030E-35CD-456C-B6FA-7D131F6C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DB2AFF-831D-49FE-A635-C238EAA2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16472D-0466-4E65-BD5F-730839F1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7CB318-9E88-4D18-B5D8-345B724A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EA3B25-38E9-4640-89C7-D867A329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F5F742-064B-436F-902A-29BC606C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B7B206-F874-4C41-BE99-F65BDFFD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0299E5-32A6-42FA-B40C-C99A46DA1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BFDD-FB81-452E-B800-E1AC1D94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9AC188-D922-4330-A848-9F9DFE934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04E4CD-BEEE-4887-9E90-3773CACBB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5FAC4E-2A4E-425B-8911-58F71DF6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3DD73A-0AF9-4C5D-8BFD-01B6409E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8B1EBF-F8CA-47D5-86FD-46E6545A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F937E0-3BF6-4259-8005-DF3D97BF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3172D4-98F7-432F-AB2B-1CA4361D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F73208-81E9-4A39-AD74-87451565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5DBD2C-E573-49C6-950A-6B62DEED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09D7CF-1368-41A2-A042-CBBAF904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8F49-FE6B-4E3A-B0FF-90DD8B76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1F4271-34AB-4260-AF77-8958B9CE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5A6BFE-E726-42C1-9E3D-6F14BD1A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7BFAA2-62B3-4C21-B60D-76BF6B6DB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528E4C-F961-46AD-8D26-D27A173B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688836-3368-4533-841E-ED81A78D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953EFC-1F99-4687-9FBB-553F48C6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D8422E-08DC-4A01-81FA-796FCAFC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CB0790-5C7C-4ECE-894E-0F5340C2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8FB562-54B0-4698-87F3-55B1525D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C78267-E06A-49A3-81FD-D78A407C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F64D-4921-4F0A-9803-C60495C0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3781F5-C89A-46BE-B4B9-281710F5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17539F-BE91-4ACA-85C4-CD459347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2DFBD4-D9BB-4927-914A-B2CAF421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33CF80-8E93-4C14-BF04-22CCFBB7D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53235E-D8B0-42B3-91F2-FFA14E99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6D49-E6AF-4D5E-91AA-0280F111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8381-2345-453E-BB5D-6E782A37EED0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46D0-38E9-4BCE-B532-06DAF384B981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0986-C41A-4BFF-8BAB-617F9292C43A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2E8E-4CE6-4210-ADE6-6071AB7D57B1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B1CD-6226-4F83-90AA-5FF58355D4A7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4488-87BE-4879-A6BE-FEF3CAB9A56E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9DC4-0CBE-4E70-8C4A-9A1EABBA6B19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80720" y="2133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UNIT 3: ENERGY CHANGES &amp; RATES OF REA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Picture 5" descr="https://encrypted-tbn0.gstatic.com/images?q=tbn:ANd9GcSyMlyHtCB9HNH4_cysv-7_3fE0X78z7FVBVsPEU3T0ki8jxBlE2w"/>
          <p:cNvPicPr/>
          <p:nvPr/>
        </p:nvPicPr>
        <p:blipFill>
          <a:blip r:embed="rId1"/>
          <a:stretch/>
        </p:blipFill>
        <p:spPr>
          <a:xfrm>
            <a:off x="3276720" y="4267080"/>
            <a:ext cx="367668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575f6d"/>
                </a:solidFill>
                <a:latin typeface="Century Schoolbook"/>
              </a:rPr>
              <a:t>FACTORS AFFECTING ENERGY CHANG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eat change in a chemical system (enthalpy) can be calculated using the formul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Q=m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∆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∆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 – the change in T from the beginning to the end (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nal –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itial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type of substance is taken care of by the c value which is the specific he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75f6d"/>
                </a:solidFill>
                <a:latin typeface="Century Schoolbook"/>
              </a:rPr>
              <a:t>ENDOTHERMIC VS EXOTHERMIC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8580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nergy changes are classified into endothermic or exothermic based on how energy flows between the chemical system and its surrounding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f energy is lost to the surroundings, the change is EXOTHERMIC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n an exothermic change,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e value of  Q will be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egative and the temperature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f the system will decreas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6" name="Picture 5" descr="https://encrypted-tbn2.gstatic.com/images?q=tbn:ANd9GcRSCw5ouaD2s7nbb3jxMS6a81fgR0-Z15EJQdN2gVGdfva-K-tvPg"/>
          <p:cNvPicPr/>
          <p:nvPr/>
        </p:nvPicPr>
        <p:blipFill>
          <a:blip r:embed="rId1"/>
          <a:stretch/>
        </p:blipFill>
        <p:spPr>
          <a:xfrm>
            <a:off x="6553080" y="3429000"/>
            <a:ext cx="16765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575f6d"/>
                </a:solidFill>
                <a:latin typeface="Century Schoolbook"/>
              </a:rPr>
              <a:t>ENDOTHERMIC VS. EXOTHERMIC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energy is absorbed from its surroundings, the change is ENDOTHERMIC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an endothermic change, the value of Q will be positive and the temperature of the system will increas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9" name="Picture 5" descr="https://encrypted-tbn0.gstatic.com/images?q=tbn:ANd9GcR5P6Uen8ugJ93Ahub5ty6qN85AOBfCUvpL3EN4ocW0FVnpBdQqDg"/>
          <p:cNvPicPr/>
          <p:nvPr/>
        </p:nvPicPr>
        <p:blipFill>
          <a:blip r:embed="rId1"/>
          <a:stretch/>
        </p:blipFill>
        <p:spPr>
          <a:xfrm>
            <a:off x="2286000" y="3276720"/>
            <a:ext cx="350532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BASIC DEFINITION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ermochemistry: the study of energy changes that accompany physical or chemical changes of matter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ermal Energy: the energy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vailable from a substance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s a result of the motion of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ts molecules; the sum of the kinetic energies of all of the particles of a system (can’t measure this but can measure heat released or absorbed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5" descr="https://encrypted-tbn2.gstatic.com/images?q=tbn:ANd9GcQUGkcynWaNY6CTR0331XOd-fYLTm93eu1tIKYQJcnnhMUeVufRZQ"/>
          <p:cNvPicPr/>
          <p:nvPr/>
        </p:nvPicPr>
        <p:blipFill>
          <a:blip r:embed="rId1"/>
          <a:stretch/>
        </p:blipFill>
        <p:spPr>
          <a:xfrm>
            <a:off x="5867280" y="23623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647712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575f6d"/>
                </a:solidFill>
                <a:latin typeface="Century Schoolbook"/>
              </a:rPr>
              <a:t>BASIC DEFINITION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System: any sample under observation (could be the coffee in a coffee cup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emical System: the set of reactants and products that are being studied (usually represented by a chemical equation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urroundings: all matter around the system being studied that is capable of absorbing or releasing energ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2" descr="https://encrypted-tbn3.gstatic.com/images?q=tbn:ANd9GcSAftUTC483QdRdQN9UHUsnsyh4iKt1Vje3kBuMof-IQUS5fCjQgQ"/>
          <p:cNvPicPr/>
          <p:nvPr/>
        </p:nvPicPr>
        <p:blipFill>
          <a:blip r:embed="rId1"/>
          <a:stretch/>
        </p:blipFill>
        <p:spPr>
          <a:xfrm>
            <a:off x="2438280" y="5029200"/>
            <a:ext cx="40388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TYPES OF SYSTEM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PEN SYSTEM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 chemical system in which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nergy and matter can move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etween the system and its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urroundings (e.gg a reaction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aking place in a beaker or a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est tube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1" name="Picture 5" descr="http://www.calveleyschool.co.uk/uploads/filemanager/Class_2_photos/Testtube2.gif"/>
          <p:cNvPicPr/>
          <p:nvPr/>
        </p:nvPicPr>
        <p:blipFill>
          <a:blip r:embed="rId1"/>
          <a:stretch/>
        </p:blipFill>
        <p:spPr>
          <a:xfrm>
            <a:off x="5791320" y="457200"/>
            <a:ext cx="2685960" cy="51339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7" descr="open1.png"/>
          <p:cNvPicPr/>
          <p:nvPr/>
        </p:nvPicPr>
        <p:blipFill>
          <a:blip r:embed="rId2"/>
          <a:stretch/>
        </p:blipFill>
        <p:spPr>
          <a:xfrm>
            <a:off x="2743200" y="4343400"/>
            <a:ext cx="272736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575f6d"/>
                </a:solidFill>
                <a:latin typeface="Century Schoolbook"/>
              </a:rPr>
              <a:t>TYPES OF SYSTEM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OSED SYSTEM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ne in which matter can not move in or out but energy ma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(e.g. once the lid is on and when heated, the steam cannot leave (matter) but the heat is passed through the pot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5" name="Picture 2" descr="closed1.png"/>
          <p:cNvPicPr/>
          <p:nvPr/>
        </p:nvPicPr>
        <p:blipFill>
          <a:blip r:embed="rId1"/>
          <a:stretch/>
        </p:blipFill>
        <p:spPr>
          <a:xfrm>
            <a:off x="3200400" y="3565440"/>
            <a:ext cx="394344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2388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575f6d"/>
                </a:solidFill>
                <a:latin typeface="Century Schoolbook"/>
              </a:rPr>
              <a:t>TYPES OF SYSTEMS CONT’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295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SOLATED SYSTEM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system in which neither mass or energy can move in or out; this would be the ideal way to measure energy changes in a chemical system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s is difficult to do, so to measure thermal energy changes, we use calorimeters to be isolated systems even though they are really closed system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Picture 2" descr="isolated1.png"/>
          <p:cNvPicPr/>
          <p:nvPr/>
        </p:nvPicPr>
        <p:blipFill>
          <a:blip r:embed="rId1"/>
          <a:stretch/>
        </p:blipFill>
        <p:spPr>
          <a:xfrm>
            <a:off x="4267080" y="3962520"/>
            <a:ext cx="3197520" cy="2511360"/>
          </a:xfrm>
          <a:prstGeom prst="rect">
            <a:avLst/>
          </a:prstGeom>
          <a:ln w="0">
            <a:noFill/>
          </a:ln>
        </p:spPr>
      </p:pic>
      <p:sp>
        <p:nvSpPr>
          <p:cNvPr id="369" name="TextBox 4"/>
          <p:cNvSpPr/>
          <p:nvPr/>
        </p:nvSpPr>
        <p:spPr>
          <a:xfrm>
            <a:off x="609480" y="487692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 thermos is almost an isolated system but it does lose or gain heat over tim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75f6d"/>
                </a:solidFill>
                <a:latin typeface="Century Schoolbook"/>
              </a:rPr>
              <a:t>MEASURING ENERGY CHANGES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alorimetry is the process through which energy changes in a chemical system are measured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Picture 5" descr="https://encrypted-tbn2.gstatic.com/images?q=tbn:ANd9GcShbZuxBbWb3UNzQioWEcSsXgb-EA7wVJ8jO3xFSlvujO-3F8p7vQ"/>
          <p:cNvPicPr/>
          <p:nvPr/>
        </p:nvPicPr>
        <p:blipFill>
          <a:blip r:embed="rId1"/>
          <a:stretch/>
        </p:blipFill>
        <p:spPr>
          <a:xfrm>
            <a:off x="1143000" y="3733920"/>
            <a:ext cx="1790640" cy="25527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7" descr="https://encrypted-tbn1.gstatic.com/images?q=tbn:ANd9GcR0wkIFOjc2EDOjaS8qE7SDSshR71g9QxBfXdRYKVp7bq2zoU61"/>
          <p:cNvPicPr/>
          <p:nvPr/>
        </p:nvPicPr>
        <p:blipFill>
          <a:blip r:embed="rId2"/>
          <a:stretch/>
        </p:blipFill>
        <p:spPr>
          <a:xfrm>
            <a:off x="5181480" y="2819520"/>
            <a:ext cx="2619360" cy="2124000"/>
          </a:xfrm>
          <a:prstGeom prst="rect">
            <a:avLst/>
          </a:prstGeom>
          <a:ln w="0">
            <a:noFill/>
          </a:ln>
        </p:spPr>
      </p:pic>
      <p:sp>
        <p:nvSpPr>
          <p:cNvPr id="374" name="TextBox 8"/>
          <p:cNvSpPr/>
          <p:nvPr/>
        </p:nvSpPr>
        <p:spPr>
          <a:xfrm>
            <a:off x="4038480" y="56386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AHS science lab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Box 9"/>
          <p:cNvSpPr/>
          <p:nvPr/>
        </p:nvSpPr>
        <p:spPr>
          <a:xfrm>
            <a:off x="1143000" y="28954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ancy calori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575f6d"/>
                </a:solidFill>
                <a:latin typeface="Century Schoolbook"/>
              </a:rPr>
              <a:t>MEASURING ENERGY CHANG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Hard to measure thermal energy changes but you can measure: changes in T, Volume of or mass contained in the system and pressure of system on surroundings and vice-vers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emperature – the measure of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average kinetic energy of al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particles of a sample of matte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So to indirectly measure thermal energy, we measure heat (Q) – how much is leaving or entering a syste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8" name="Picture 2" descr="https://encrypted-tbn1.gstatic.com/images?q=tbn:ANd9GcS5YXYXqMXMXYTthSYx2IiDUYccNnbSxlumit4VCqJn4TKm96NE"/>
          <p:cNvPicPr/>
          <p:nvPr/>
        </p:nvPicPr>
        <p:blipFill>
          <a:blip r:embed="rId1"/>
          <a:stretch/>
        </p:blipFill>
        <p:spPr>
          <a:xfrm>
            <a:off x="5715000" y="2666880"/>
            <a:ext cx="292428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575f6d"/>
                </a:solidFill>
                <a:latin typeface="Century Schoolbook"/>
              </a:rPr>
              <a:t>FACTORS AFFECTING ENERGY CHANG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factors that affect energy change in a chemical system are mass (m in g), temperature change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 in C) and the specific heat capacity of a substance (c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Century Schoolbook"/>
              </a:rPr>
              <a:t>Specific heat capaci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The amount of energy required to raise the T of 1 gram of a substance by 1</a:t>
            </a:r>
            <a:r>
              <a:rPr b="0" lang="en-CA" sz="1600" spc="-1" strike="noStrike">
                <a:solidFill>
                  <a:srgbClr val="000000"/>
                </a:solidFill>
                <a:latin typeface="Century Schoolbook"/>
              </a:rPr>
              <a:t>o</a:t>
            </a: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C. (units = J/g/C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Picture 2" descr="https://encrypted-tbn3.gstatic.com/images?q=tbn:ANd9GcTKmSnhDVStUjc1cB3cQVvyJnDV87oEAbPENvn2ysDcmpIN3crv"/>
          <p:cNvPicPr/>
          <p:nvPr/>
        </p:nvPicPr>
        <p:blipFill>
          <a:blip r:embed="rId1"/>
          <a:stretch/>
        </p:blipFill>
        <p:spPr>
          <a:xfrm>
            <a:off x="2971800" y="4648320"/>
            <a:ext cx="258120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7T14:42:46Z</dcterms:created>
  <dc:creator>Jennifer Wilso</dc:creator>
  <dc:description/>
  <dc:language>en-US</dc:language>
  <cp:lastModifiedBy>Sylvia</cp:lastModifiedBy>
  <dcterms:modified xsi:type="dcterms:W3CDTF">2017-11-06T04:15:17Z</dcterms:modified>
  <cp:revision>12</cp:revision>
  <dc:subject/>
  <dc:title>Heat and Energy Changes</dc:title>
</cp:coreProperties>
</file>